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488-4DDA-44AD-86EB-5385C933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C65-7B1B-4BFC-8F6E-210E70B1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E13-8BF5-48B5-9939-9B1EE953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9CE-C1FF-4D9F-8C51-06644E67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914-E58C-44EC-A55C-C754D7AA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4B5D-90B0-498F-B7A7-53FD67C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BB41-1E0A-478F-B5C5-DF3D77C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5F8-B58E-43AF-8547-F41B02A0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7A2-1306-4067-AAD4-2A439B47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1653-AC01-4349-BA21-CA27190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07B-AD34-4F29-B982-0E4FE64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833-0806-46F3-9933-88D6246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21A3-1125-494A-AD5A-1171751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B26D-EAEF-4492-A499-AD5CFCD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B825-E7EB-42B9-A369-604E388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85F1-426D-456C-9F3D-70BC1E25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8BFC-84A5-485D-9D45-E50BE23F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27C-8C8B-4C28-9BF4-F918056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BC1-98C6-4D53-9F58-566A908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FB3-CFDB-42E2-A5A1-B512CB2C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766-F1E4-4CC2-887F-41045A0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7CE-3ACE-4A3E-BFA2-94E9F7D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089-1A44-4D19-8921-61A9516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65E-E185-442D-8566-6EB4ECB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04F6-3F2A-42B4-8C55-C045170FC7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5D5-4529-4487-9BA6-4C933FF9C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February 16, 200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three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rehensible Inp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appropr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tudents’ proficiency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 expla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ademic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content concepts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propriate Spee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pression and body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slowly and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jargon and idiomatic speech as much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re pauses between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horter sentences with simpler synt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pportive learn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ear Explanation of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structions in a step-by-step manner and/or with demonst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ral directions on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students to re-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eer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restate concepts to clarify meaning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ariety of Techniq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/Think-A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s and/or Re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and Performance-Ba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hysical Response (T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ures/Bod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 and Multiple 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ariety of Techniques—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xt Adap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or underline key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d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d outline or cloze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materials (consider using Lexil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three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rehensible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7-02-12T17:42:24Z</dcterms:modified>
  <cp:revision>57</cp:revision>
  <dc:subject/>
  <dc:title>District #6 SIOP Trainer of Trainers </dc:title>
</cp:coreProperties>
</file>